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E37F-A1A6-4B63-AEB9-C091807CF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297A-3872-4B35-8DC5-7C033C61E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74A7-40BC-49DC-A947-390C1BD5D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2CF6-0F7B-4451-AED3-DF3EA567C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BF23-2D1B-4EA6-A175-36553368D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BB8A-8142-452F-8B8C-71739F04D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F58E-7E70-415E-92FB-C97D99BDB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C965-2288-4361-8C5B-8B8CCBDF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1618-A3E5-4226-A572-D4C5E2645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239-6014-46AD-AC97-2CFBAA33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B16-C5F9-42FC-A939-4F0E8D9E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A50-26AD-4381-83A9-70E6F599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371-5E6B-4814-9F64-49781586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415-C0F1-423F-9036-518BDAD4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6EB-DA7F-48C7-9FDD-EA97F01A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14E-09BE-49D4-9BED-B6EFAB5F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B80-4CEF-425D-A0DE-DABD21FD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961-8027-4D21-8501-DB341838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7EC-4B3B-4FF9-9BEF-3F8A961F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467-CFE1-483C-BCB7-F5C70314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DB5-7713-406A-9353-64B343A8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BA86-3F0B-4295-8562-E0EDE477A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M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Anaerobic Respir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ERMEN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process that releases energy from food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3657600" y="5410080"/>
            <a:ext cx="12600" cy="12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819520" y="4572000"/>
            <a:ext cx="12600" cy="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OES FERMENTATION OCC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absence of oxygen; It is an anaerobic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FERMENTATION OCC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ytopla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ES FERMENTATION OCC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simple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ease of ener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: Not very efficient - only get 2 AT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for each molecule of glucose broken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5067360" cy="236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3809880" y="4191120"/>
            <a:ext cx="5105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IC ACID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d out by animals, some bacteria and a few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 product = lact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of lactic ac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aking food products like yogurt,   cheese, pickles and soy sau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tic acid builds up in our muscles during strenuous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COHOLIC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d out by bacteria and y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 products = ethyl alcohol and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of waste product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aking beer and 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s a gasoline add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in bread and bakery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676160" cy="1598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371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3:01:19Z</dcterms:created>
  <dc:creator>Clayton Johns</dc:creator>
  <dc:description/>
  <dc:language>en-US</dc:language>
  <cp:lastModifiedBy>Sherri Holmgren</cp:lastModifiedBy>
  <dcterms:modified xsi:type="dcterms:W3CDTF">2017-11-13T17:40:28Z</dcterms:modified>
  <cp:revision>6</cp:revision>
  <dc:subject/>
  <dc:title>FERMENTATION</dc:title>
</cp:coreProperties>
</file>